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7CC-1B59-4520-91B6-95742622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B74-37D9-450D-BBCB-7E390200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786-BF24-46CF-95A3-F1CD4845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101-DCA9-4B14-A050-BC2E2BEC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669-D8C0-477D-A4A2-EFCFC73C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26A-8DB6-429D-9BA0-CF9F5AE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824-37DD-49FF-8D49-7B30301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C78-316B-414E-A411-435CE38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F03-756F-4E71-AB92-259A909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B90-A953-4071-8B95-787B24D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2D2-29D1-4F0C-B305-615677B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84D-91DA-4166-9F5D-5009BEF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78D-E776-422E-A7AB-8DFE2A4B3674}" type="slidenum">
              <a:rPr b="0" lang="en-US" sz="14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</a:rPr>
              <a:t>Southern Africa → Malawi food insecurity and the 2005 food crisis</a:t>
            </a:r>
            <a:r>
              <a:rPr b="1" lang="en-GB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96880" y="2571840"/>
            <a:ext cx="8128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Tahoma"/>
                <a:ea typeface="Times New Roman"/>
              </a:rPr>
              <a:t>Presentation at “Continental Seminar on Food Security – Africa”; 12 - 16 March 2007, Nairobi, Kenya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Richard Masundir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enior Agricultural Economis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ADC Secretariat, Gaborone, Botswan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www.sadc.in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law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1600" y="1401840"/>
            <a:ext cx="7105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dry spell in February 2005 affected most crops (maize and cash crops) significant impact on food security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response, Malawi VAC embarked on two early warning activities namely (a) the pre-harvest indicative analysis and (b) the </a:t>
            </a:r>
            <a:r>
              <a:rPr b="0" lang="en-ZA" sz="2800" spc="-1" strike="noStrike">
                <a:solidFill>
                  <a:srgbClr val="3333cc"/>
                </a:solidFill>
                <a:latin typeface="Tahoma"/>
              </a:rPr>
              <a:t>Main Harvest-Based Early Warning Monitoring Assessment and Analysi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law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71600" y="14018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rop estimate done on 1st April 2005 forecast a maize harvest of 1.3 million MT compared to 1.7 million Mt 2004; resultant shortfall of 300,000 to 350,000 MT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law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1087560"/>
            <a:ext cx="7105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pulation continued to face high levels of vulnerability, much of it chronic and related to high levels of poverty and HIV/AID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ritical rainfall failure and lack of agric inputs during planting led to the lowest cereal production since 1994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AC, using a livelihoods-based vulnerability approach. estimated 4.2 million population at risk of food insecurity requiring 269,600 metric tons of maize equivalen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760" y="287280"/>
            <a:ext cx="7194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IV and Aid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14360" y="155412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Health Status, Illness and HIV and AID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health status in SADC countries remains of concern with the highest prevalence of HIV and AIDS in the world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4240" y="647640"/>
            <a:ext cx="8189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76320" y="1101600"/>
            <a:ext cx="70009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52760" y="287280"/>
            <a:ext cx="7194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IV and Aid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14360" y="1154160"/>
            <a:ext cx="7086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ccording to UNAIDS Overview of Global AIDS Epidemic (2006),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IV infection rates seem to have stabilized in most countries with slight increases in South Africa and decreases in Zimbabwe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ceptionally high infection levels continue in Botswana, Namibia and Swaziland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ber of orphans seems to be increasing with an estimated regional increase of 20.3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ercent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71440" y="1209240"/>
            <a:ext cx="64976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870"/>
                </a:solidFill>
                <a:latin typeface="Tahoma"/>
              </a:rPr>
              <a:t>THANK YO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2287440"/>
            <a:ext cx="42876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080" y="266760"/>
            <a:ext cx="74804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ood Balance Sheet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080" y="1682640"/>
            <a:ext cx="624852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vised estimates indicate an overall 2005 cereal crop production slightly better than 2004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gional cereal production of 25.95 million, 1% better than the 2004 harvest of 25.60 million tonnes. Maize production, estimated at 20.68 million tonnes, is 1% higher than the 2004 harvest of 20.44 million tonnes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ll cereals production estimate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1684440"/>
            <a:ext cx="7929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90400" y="1504800"/>
          <a:ext cx="7696440" cy="53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504800"/>
                    <a:ext cx="769644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8280" y="337680"/>
            <a:ext cx="808668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870"/>
                </a:solidFill>
                <a:latin typeface="Arial"/>
              </a:rPr>
              <a:t>Data &amp; Analysi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080" y="1311120"/>
            <a:ext cx="7682040" cy="5371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90400" y="361800"/>
          <a:ext cx="6353280" cy="61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361800"/>
                    <a:ext cx="635328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Assessments indicated all countries except South Africa had overall cereal deficit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Zambia (100,000 tonnes),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Zimbabwe (1.62 million tonnes)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Lesotho, 292,000 tonnes</a:t>
            </a:r>
            <a:r>
              <a:rPr b="1" lang="en-US" sz="60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60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alawi,838,000 tonnes</a:t>
            </a:r>
            <a:r>
              <a:rPr b="1" lang="en-US" sz="60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60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ozambique,532,000 tonnes</a:t>
            </a:r>
            <a:r>
              <a:rPr b="1" lang="en-US" sz="60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60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waziland. 207,000 tonne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,</a:t>
            </a: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6880" y="2019240"/>
            <a:ext cx="792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VAC Analysi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00240" y="1573200"/>
            <a:ext cx="716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A analysis confirms the fact that vulnerability to food insecurity in the region is chronic in natur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largely an outcome of growing poverty,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IV and AIDS, and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ak governance, commonly referr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y the UN in the region as the “Triple Threat”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Number of people in need of food assistance almost doubles to 9.71 million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92240" y="1379520"/>
            <a:ext cx="718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7400" y="1233000"/>
            <a:ext cx="6772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ulnerability assessments carried out in May 2005 indicated tha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tal number of people in need of food assistance i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esotho, Malawi, Mozambique, Swaziland, Zambi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Zimbabw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had increased to 9.71 million from 5.4 million during the 2004/05 consumption year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 approximately 730,000 tonnes of food aid required to cover this need. Donor assistance is urgently required to assist these countries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ADC RVAC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71600" y="1401840"/>
            <a:ext cx="7105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situation has been exacerbated by consecut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ears of below normal seasons and poor harvests since 2002 leading to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gradual erosion of household assets. In addition,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olicy environment in some countries has also had a negative impact, resulting in households facing reduced availability and affordability of basic commodities and services (education, health, water, agricultural inputs and staple foods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lawi Rainfall Performance 2004/2005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6880" y="1619280"/>
            <a:ext cx="792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85760" y="1546200"/>
            <a:ext cx="7240320" cy="5311800"/>
            <a:chOff x="1085760" y="1546200"/>
            <a:chExt cx="7240320" cy="53118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324600" y="1546200"/>
              <a:ext cx="2646360" cy="53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144960" y="2784240"/>
              <a:ext cx="1325880" cy="31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5920" y="3901320"/>
              <a:ext cx="1145160" cy="8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3240" y="5823360"/>
              <a:ext cx="120456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6027840" y="1916640"/>
              <a:ext cx="22903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6096960" y="3590640"/>
              <a:ext cx="2229120" cy="15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6096960" y="5203800"/>
              <a:ext cx="2199960" cy="15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1085760" y="1668240"/>
              <a:ext cx="2409840" cy="16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1146600" y="3467160"/>
              <a:ext cx="2350440" cy="16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1146600" y="5203080"/>
              <a:ext cx="231984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flipV="1">
              <a:off x="4831560" y="4150080"/>
              <a:ext cx="1384920" cy="6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264840" y="5265720"/>
              <a:ext cx="1867320" cy="37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711320" y="2660040"/>
              <a:ext cx="1446480" cy="74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4:38:15Z</dcterms:created>
  <dc:creator>richardm</dc:creator>
  <dc:description/>
  <dc:language>en-US</dc:language>
  <cp:lastModifiedBy>R T Masundire</cp:lastModifiedBy>
  <dcterms:modified xsi:type="dcterms:W3CDTF">2007-03-13T10:07:24Z</dcterms:modified>
  <cp:revision>10</cp:revision>
  <dc:subject/>
  <dc:title>OVERVIEW OF THE FOOD SECURITY SITUATION IN SOUTHERN AFRICA</dc:title>
</cp:coreProperties>
</file>